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2ABE-E07A-4FF1-A47B-68C7BA6D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9337-AB1A-47C2-B84D-85E91B8D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2D86-1717-482D-884E-F16A251B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5C1-97C6-46E3-AD34-D1B32C49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6061-5AD5-40C0-951A-3AF19432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E50B-931D-4539-9E9F-EA0B0B32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23EA-46C3-4914-A6A6-923B3C4B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ACA1-8BEF-48BC-B696-71CEC1C9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9999-71F3-4ACA-898A-0B63BF3C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0880-A42A-464A-8D0E-1501B2B2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D426-DF5D-43F0-97B0-5A369580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91EE-92FE-4DB4-B60F-1006EAD6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559C-F8A9-4A7B-B007-9BE43FF444A9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24080" y="122400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診察券番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P. 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22640" y="2171880"/>
            <a:ext cx="197964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生年月日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性別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体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P. 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24080" y="311940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全身状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P. 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02080" y="406548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誤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P. 1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22640" y="501480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症状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外傷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 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最大３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P.24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24080" y="596268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症状の詳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P. 2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22640" y="691200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既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P. 3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3" idx="2"/>
            <a:endCxn id="44" idx="1"/>
          </p:cNvCxnSpPr>
          <p:nvPr/>
        </p:nvCxnSpPr>
        <p:spPr>
          <a:xfrm flipH="1" rot="16200000">
            <a:off x="3460680" y="3375360"/>
            <a:ext cx="694800" cy="1188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2"/>
            <a:endCxn id="45" idx="0"/>
          </p:cNvCxnSpPr>
          <p:nvPr/>
        </p:nvCxnSpPr>
        <p:spPr>
          <a:xfrm rot="5400000">
            <a:off x="2516760" y="4317840"/>
            <a:ext cx="1392480" cy="1800"/>
          </a:xfrm>
          <a:prstGeom prst="bentConnector3">
            <a:avLst>
              <a:gd name="adj1" fmla="val 500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3"/>
          </p:cNvCxnSpPr>
          <p:nvPr/>
        </p:nvCxnSpPr>
        <p:spPr>
          <a:xfrm rot="5400000">
            <a:off x="4448160" y="4322880"/>
            <a:ext cx="698040" cy="1189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1" idx="2"/>
            <a:endCxn id="42" idx="0"/>
          </p:cNvCxnSpPr>
          <p:nvPr/>
        </p:nvCxnSpPr>
        <p:spPr>
          <a:xfrm rot="5400000">
            <a:off x="2990520" y="1948680"/>
            <a:ext cx="444960" cy="1800"/>
          </a:xfrm>
          <a:prstGeom prst="bentConnector3">
            <a:avLst>
              <a:gd name="adj1" fmla="val 499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2" idx="2"/>
            <a:endCxn id="43" idx="0"/>
          </p:cNvCxnSpPr>
          <p:nvPr/>
        </p:nvCxnSpPr>
        <p:spPr>
          <a:xfrm flipH="1" rot="16200000">
            <a:off x="2990880" y="2896200"/>
            <a:ext cx="444960" cy="1800"/>
          </a:xfrm>
          <a:prstGeom prst="bentConnector3">
            <a:avLst>
              <a:gd name="adj1" fmla="val 499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990880" y="5739480"/>
            <a:ext cx="444960" cy="1800"/>
          </a:xfrm>
          <a:prstGeom prst="bentConnector3">
            <a:avLst>
              <a:gd name="adj1" fmla="val 500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6" idx="2"/>
            <a:endCxn id="47" idx="0"/>
          </p:cNvCxnSpPr>
          <p:nvPr/>
        </p:nvCxnSpPr>
        <p:spPr>
          <a:xfrm rot="5400000">
            <a:off x="2989800" y="6688080"/>
            <a:ext cx="446400" cy="1800"/>
          </a:xfrm>
          <a:prstGeom prst="bentConnector3">
            <a:avLst>
              <a:gd name="adj1" fmla="val 500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960640" y="4067280"/>
            <a:ext cx="503280" cy="50328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誤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07040" y="40035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8160" y="446400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いい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0880" y="729936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P.19)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不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92640" y="2025720"/>
            <a:ext cx="1173240" cy="811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81000" y="1079640"/>
            <a:ext cx="1173240" cy="811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981000" y="3024360"/>
            <a:ext cx="1173240" cy="811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157720" y="3178080"/>
            <a:ext cx="1173240" cy="81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300640" y="7661160"/>
            <a:ext cx="1173240" cy="811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907920" y="4824360"/>
            <a:ext cx="1173240" cy="811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4292640" y="5832360"/>
            <a:ext cx="1173240" cy="811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907920" y="6778800"/>
            <a:ext cx="1173240" cy="811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22640" y="766116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入力ありがとうございまし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9000" y="114480"/>
            <a:ext cx="4317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カッコ内のページ番号は、いただているドキュメ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D_WDK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事前問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機能仕様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.0.do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」に対応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9720" y="4780080"/>
            <a:ext cx="1008000" cy="358560"/>
          </a:xfrm>
          <a:prstGeom prst="wedgeRoundRectCallout">
            <a:avLst>
              <a:gd name="adj1" fmla="val -32518"/>
              <a:gd name="adj2" fmla="val -8628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一行二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22640" y="838044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処置対応画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47" idx="2"/>
            <a:endCxn id="67" idx="0"/>
          </p:cNvCxnSpPr>
          <p:nvPr/>
        </p:nvCxnSpPr>
        <p:spPr>
          <a:xfrm>
            <a:off x="3212280" y="7415280"/>
            <a:ext cx="360" cy="24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7" idx="2"/>
            <a:endCxn id="70" idx="0"/>
          </p:cNvCxnSpPr>
          <p:nvPr/>
        </p:nvCxnSpPr>
        <p:spPr>
          <a:xfrm>
            <a:off x="3212280" y="8164440"/>
            <a:ext cx="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4:19:09Z</dcterms:created>
  <dc:creator>nh</dc:creator>
  <dc:description/>
  <dc:language>en-US</dc:language>
  <cp:lastModifiedBy>nh</cp:lastModifiedBy>
  <dcterms:modified xsi:type="dcterms:W3CDTF">2011-06-01T04:43:53Z</dcterms:modified>
  <cp:revision>8</cp:revision>
  <dc:subject/>
  <dc:title>スライド 1</dc:title>
</cp:coreProperties>
</file>